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F17-B345-424F-AD3C-89D689BC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31F-B287-4206-AC99-2EDACEE9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0B6-1DC9-4D0A-BB81-AA43299C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C82-49F4-4C8B-988A-60AC06E3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341-2A63-4171-8332-61A0068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DD4-6C79-477E-9AC4-2BC1028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118-DAF5-41F5-BDE4-C547ACDD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8BC-3DA4-4DA2-B4F4-BCF00B39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3C4-61C4-453B-9579-ADB36589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F99-2B99-4F56-97A3-11765BA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2CD-68BC-4C87-8943-CCEDD566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E8F-39AC-46A0-A413-88AA50A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D21E-1C45-4338-AA26-A36795615D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c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r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xxxxx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yyyyy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8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30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Democrac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plato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anchai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e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le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arolyn Williams</cp:lastModifiedBy>
  <dcterms:modified xsi:type="dcterms:W3CDTF">2011-05-24T01:03:50Z</dcterms:modified>
  <cp:revision>9</cp:revision>
  <dc:subject/>
  <dc:title>Password</dc:title>
</cp:coreProperties>
</file>